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9E34-EED2-453E-B3E9-134623321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D844-3F3A-47DB-8A2E-52DFFBE40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6B1D-B4EA-46A1-A7EA-AF5B73125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3ED-B819-4818-8006-28A844544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FD79-3E98-43B4-B7E7-419159244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E9D-2E53-4BEF-9E35-808C09E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7FD-337D-44A8-A949-4AE7A97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D52-1098-4038-A7BE-48C28C87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C6A-3880-4AA7-8569-AEFC8036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C1F-C128-4AC3-B3D2-A976186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BF6-4B9E-496C-8783-0C56385B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B0B-5B17-4ECD-86D3-52EA0D8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D39-C2D7-4319-804D-1D57211D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AB0-0A62-4E64-A675-4BE7777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74E-1AA3-4EA3-8B3E-BE3E28D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584-1718-45A4-9814-F8679C5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35A-3E5A-46BF-BE9A-7BDD0883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D20C-8934-4EA0-8823-F2CD3004C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c.brooklyn.cuny.edu/smarttutor/core3_22/images/Atom_structure_new.gif&amp;imgrefurl=http://lc.brooklyn.cuny.edu/smarttutor/core3_22/atomex.html&amp;h=432&amp;w=432&amp;sz=50&amp;hl=en&amp;start=1&amp;usg=__E-2NDaK3gIIzhJXKG3a9UU9aUok=&amp;tbnid=nyqQMh6jKJQ4LM:&amp;tbnh=126&amp;tbnw=126&amp;prev=/images%3Fq%3Datoms%26gbv%3D2%26hl%3Den%26safe%3Dactive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fi.edu/learn/heart/blood/images/large_white-cells.jpg&amp;imgrefurl=http://www.fi.edu/learn/heart/blood/white.html&amp;h=479&amp;w=600&amp;sz=87&amp;hl=en&amp;start=30&amp;usg=__dteeb_Zzk9t7MnIl_u2n2ipBX3Q=&amp;tbnid=jG22bvN1TReFYM:&amp;tbnh=108&amp;tbnw=135&amp;prev=/images%3Fq%3Dcells%26start%3D20%26gbv%3D2%26ndsp%3D20%26hl%3Den%26safe%3Dactive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ngm.nationalgeographic.com/2007/02/hearts/hearts-photography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i-can-drink-milk-again.com/images/Human-Digestive-System-Picture.jpg&amp;imgrefurl=http://www.i-can-drink-milk-again.com/brochure/Digestive-System-Picture.html&amp;h=456&amp;w=271&amp;sz=25&amp;hl=en&amp;start=10&amp;usg=__PTYPNxPWoXIPdXDzrThoqZjOQDA=&amp;tbnid=-n39jJ78PYmlhM:&amp;tbnh=128&amp;tbnw=76&amp;prev=/images%3Fq%3Ddigestive%2Bsystem%26gbv%3D2%26hl%3Den%26safe%3Dactive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www.ss-tours.com/images/butterfly-2.jpg&amp;imgrefurl=http://www.ss-tours.com/guad_mich.html&amp;h=339&amp;w=228&amp;sz=30&amp;hl=en&amp;start=11&amp;usg=__c9Fzp1AghInqiW4KXW01-qFyELM=&amp;tbnid=wg9m14HiUUB1eM:&amp;tbnh=119&amp;tbnw=80&amp;prev=/images%3Fq%3Dpopulations%2Bbutterfly%26gbv%3D2%26hl%3Den%26safe%3Dactive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images.google.com/imgres?imgurl=http://www.tooprecioustowear.org/_img/products/ecoSphere.jpg&amp;imgrefurl=http://www.tooprecioustowear.org/_partners/ecofriendly3.html&amp;h=300&amp;w=360&amp;sz=35&amp;hl=en&amp;start=6&amp;usg=__AgYlBoczkZA6_Uf7fJc2FznHB9s=&amp;tbnid=61i1YP68Wcf4QM:&amp;tbnh=101&amp;tbnw=121&amp;prev=/images%3Fq%3Decosphere%26gbv%3D2%26hl%3Den%26safe%3Dactive" TargetMode="External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637000">
            <a:off x="-96840" y="246960"/>
            <a:ext cx="3657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 rot="379200">
            <a:off x="1739520" y="1263600"/>
            <a:ext cx="733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study of how organisms interact with one another and with the abiotic components in an area (ecosyste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kidsgeo.com/images/ecosystem.jpg"/>
          <p:cNvPicPr/>
          <p:nvPr/>
        </p:nvPicPr>
        <p:blipFill>
          <a:blip r:embed="rId1"/>
          <a:stretch/>
        </p:blipFill>
        <p:spPr>
          <a:xfrm>
            <a:off x="457200" y="3200400"/>
            <a:ext cx="4952880" cy="331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5410080" y="41911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system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different organisms interact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6" descr="Atom_structure_n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9625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large_white-ce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5486400"/>
            <a:ext cx="12859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9" descr="Hear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522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3520" y="5867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371600" y="5410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828800" y="4952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362320" y="4495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971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352680" y="36576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886200" y="3276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419720" y="2895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029200" y="243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486400" y="2057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24852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2" descr="Human-Digestive-System-Pictur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14560" y="2362320"/>
            <a:ext cx="995400" cy="167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butterfly-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57600" y="1523880"/>
            <a:ext cx="966960" cy="1438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7" descr="ecoSpher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8880" y="1981080"/>
            <a:ext cx="1152720" cy="96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earth-light"/>
          <p:cNvPicPr/>
          <p:nvPr/>
        </p:nvPicPr>
        <p:blipFill>
          <a:blip r:embed="rId13"/>
          <a:stretch/>
        </p:blipFill>
        <p:spPr>
          <a:xfrm>
            <a:off x="7391520" y="457200"/>
            <a:ext cx="113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saltmarshlife.com/image/Saltmarsh%20ecotone%202903-70.jpg"/>
          <p:cNvPicPr/>
          <p:nvPr/>
        </p:nvPicPr>
        <p:blipFill>
          <a:blip r:embed="rId1"/>
          <a:stretch/>
        </p:blipFill>
        <p:spPr>
          <a:xfrm>
            <a:off x="4419720" y="685800"/>
            <a:ext cx="457668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fs.fed.us/pnw/olympia/silv/local-resources/glossary/images/ecotone.jpg"/>
          <p:cNvPicPr/>
          <p:nvPr/>
        </p:nvPicPr>
        <p:blipFill>
          <a:blip r:embed="rId2"/>
          <a:stretch/>
        </p:blipFill>
        <p:spPr>
          <a:xfrm>
            <a:off x="228600" y="3884760"/>
            <a:ext cx="3733920" cy="27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filebox.vt.edu/users/amrosenb/Images/ecotone.jpg"/>
          <p:cNvPicPr/>
          <p:nvPr/>
        </p:nvPicPr>
        <p:blipFill>
          <a:blip r:embed="rId3"/>
          <a:stretch/>
        </p:blipFill>
        <p:spPr>
          <a:xfrm>
            <a:off x="228600" y="60948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esert - Mountain Ecotone"/>
          <p:cNvPicPr/>
          <p:nvPr/>
        </p:nvPicPr>
        <p:blipFill>
          <a:blip r:embed="rId4"/>
          <a:stretch/>
        </p:blipFill>
        <p:spPr>
          <a:xfrm>
            <a:off x="4724280" y="3962520"/>
            <a:ext cx="316260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 rot="20168400">
            <a:off x="91368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ok at all these ecosytems and ecoton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jor Components of Freshwater Eco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51176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1983960" y="2880360"/>
            <a:ext cx="23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 (rooted pla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040560" y="325476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 (phytoplankt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016080" y="3545280"/>
            <a:ext cx="30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consumers (zooplankt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428360" y="3834360"/>
            <a:ext cx="25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consumers (f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582000" y="5104080"/>
            <a:ext cx="10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s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19560" y="4113720"/>
            <a:ext cx="18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urt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496400" y="5561640"/>
            <a:ext cx="982440" cy="307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4280760" y="5970960"/>
            <a:ext cx="3061080" cy="3070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mposers (bacteria and fung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09560" y="1539720"/>
            <a:ext cx="7805880" cy="4764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8" name="Text Box 3"/>
          <p:cNvSpPr/>
          <p:nvPr/>
        </p:nvSpPr>
        <p:spPr>
          <a:xfrm>
            <a:off x="6668280" y="2003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39760" y="28166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38000" y="46202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65240" y="4449960"/>
            <a:ext cx="135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lling le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wi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72640" y="428976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341240" y="3751560"/>
            <a:ext cx="174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ry 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b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997960" y="3408840"/>
            <a:ext cx="19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ary consu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o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607000" y="3097440"/>
            <a:ext cx="1990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bon dioxide (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448960" y="2014920"/>
            <a:ext cx="119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51920" y="57758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867640" y="500112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l decompo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429360" y="5790600"/>
            <a:ext cx="1409040" cy="2156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luble mineral nutr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7385400" y="64706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0, p.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jor Components of a Field Eco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77840" y="685800"/>
            <a:ext cx="8661240" cy="5829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848720" y="47235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h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781680" y="4647600"/>
            <a:ext cx="11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pow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 flipH="1">
            <a:off x="4876920" y="3675240"/>
            <a:ext cx="1247760" cy="143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H="1">
            <a:off x="4038480" y="3105000"/>
            <a:ext cx="914400" cy="19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52680" y="2852640"/>
            <a:ext cx="47808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2597040" y="2749680"/>
            <a:ext cx="222480" cy="2127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1324080" y="2746440"/>
            <a:ext cx="352440" cy="1825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4840" y="335196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-ho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etle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675440" y="319968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 bee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r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819520" y="3047400"/>
            <a:ext cx="90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3810600" y="2971080"/>
            <a:ext cx="104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t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p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879080" y="3580560"/>
            <a:ext cx="12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rot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380520" y="1052640"/>
            <a:ext cx="252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928600" y="91368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ritus fee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4291920" y="105264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5905440" y="838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 flipH="1">
            <a:off x="5918040" y="10526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6757560" y="9136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7975440" y="10526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75560" y="57682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pro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3"/>
          <p:cNvSpPr/>
          <p:nvPr/>
        </p:nvSpPr>
        <p:spPr>
          <a:xfrm>
            <a:off x="1943280" y="5791320"/>
            <a:ext cx="952200" cy="230040"/>
          </a:xfrm>
          <a:prstGeom prst="rightArrow">
            <a:avLst>
              <a:gd name="adj1" fmla="val 50000"/>
              <a:gd name="adj2" fmla="val 103482"/>
            </a:avLst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714640" y="5791320"/>
            <a:ext cx="2981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wder broken down by decomp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o plant nutrients in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7366320" y="64864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2, p.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tritiv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43000" y="1393920"/>
            <a:ext cx="6248520" cy="54640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7385400" y="64864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3, p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229760" y="4357800"/>
            <a:ext cx="163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o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a, fung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451920" y="2270880"/>
            <a:ext cx="68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694120" y="21398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12720" y="23194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07760" y="6232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838480" y="6175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816000" y="35352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050280" y="1974600"/>
            <a:ext cx="1805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iotic chemic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carbon dioxid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xygen, nitroge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inera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3258000" y="5806080"/>
            <a:ext cx="134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herbivor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nivo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336640" y="4309920"/>
            <a:ext cx="118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l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in Structural Components of an Eco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7385400" y="64850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. 3-14, p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0314"/>
          <p:cNvPicPr/>
          <p:nvPr/>
        </p:nvPicPr>
        <p:blipFill>
          <a:blip r:embed="rId1"/>
          <a:stretch/>
        </p:blipFill>
        <p:spPr>
          <a:xfrm>
            <a:off x="771480" y="1295280"/>
            <a:ext cx="76075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00:50Z</dcterms:created>
  <dc:creator> </dc:creator>
  <dc:description/>
  <dc:language>en-US</dc:language>
  <cp:lastModifiedBy>MVanElli</cp:lastModifiedBy>
  <dcterms:modified xsi:type="dcterms:W3CDTF">2011-06-06T14:24:55Z</dcterms:modified>
  <cp:revision>12</cp:revision>
  <dc:subject/>
  <dc:title>Ecology</dc:title>
</cp:coreProperties>
</file>